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EBBC28-DECA-40CC-874E-06AAE89DB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body"/>
          </p:nvPr>
        </p:nvSpPr>
        <p:spPr>
          <a:xfrm>
            <a:off x="487080" y="475920"/>
            <a:ext cx="5607000" cy="7978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odos somos productos de la cultura en la que nacimos y fuimos criados.  Nuestras preferencias individuales juegan una parte en nuestra identidad como mujeres.  Esto determina nuestras elecciones de actividades de tiempo libre, nuestros valores y normas.  Si hemos nacido y crecido en la iglesia de una denominación particular, o en un hogar donde nunca se mencionaba la iglesia; esto también nos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e este modo podemos ver que la palabra cultura encierra todos los pueblos.  La cultura cruza las líneas étnicas y a la vez retiene nuestro origen étn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s interesante que el diccionario también define a la cultura como: “…mejoramiento en el cuidado y en la capacitación.” Esta es una definición que las mujeres que están involucradas en los Ministerios de la Mujer deben tomar en serio.  Nuestra meta es ayudar a todas las mujeres, no importando su origen étnico, intereses, habilidades físicas, creencias religiosas, carreras, campo empresarial, o nivel de éxito financiero.  Esto es un desafío, porque las diferentes áreas de su país influyen en la elección de los ministerios que ayudarán a las mujeres de esa área específ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l punto importante que debemos recordar cuando ministramos a toda la gente de cualquier cultura es que todos fuimos creados por Dios.  La misma sangre fluye a través de nuestros cuerpos.  Nuestro Dios maravilloso nos creó a todos para ser parte de su pueblo aquí en la tierra.  Cada persona es un descendiente de Adán y Eva.  Necesitamos reconocer y apreciar nuestras diferencias culturales al mismo tiempo que reconocemos que somos todos de la misma familia y que Dios es nuestro Pad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os nos ha dado a cada uno un don que es útil para enfrentar las situaciones tensas que resultan de un error que se comete sin darnos cuenta que hicimos algo ofensivo para otra cultura.  Ese don es el humor.  Cuando un acto potencialmente ofensivo ha ocurrido, ríase y esto ayudará al ofensor a comprender lo que dijo o hizo.  La educación toma lugar cuando recordamos nuestro sentido de humor y entonces nos ayudamos unos a otros a comprender la manera correcta de hablar, actuar, etc.  El humor nos ayuda a mantener las cosas en perspectiva y nos ayuda a no ofendernos fáci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l asistir a los retiros para mujeres y otros eventos de los Ministerios de la Mujer a través de los años, siempre me ha agradado ver a las mujeres de todas las culturas reuniéndose para adorar, amar y divertirse.  La mayoría de las mujeres se adaptan fácilmente a cualquier ambiente cultural y simplemente disfrutan su tiempo ju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 aspecto importante de la sensibilidad cultural es el desarrollo de la confianza entre aquellos de intereses y trasfondos diferentes.  Cuando se está planificando o implementando un nuevo programa, asesore las necesidades de la gente e inicie un programa que llene las necesidades de las mujeres con quienes ha de trabajar.  Todos sienten que son parte del programa si han participado de los planes.  La confianza se tiene que ganar, pero una vez que esté establecida, una gran obra ocurrirá.</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230560" y="936720"/>
            <a:ext cx="2260440" cy="1695240"/>
          </a:xfrm>
          <a:prstGeom prst="rect">
            <a:avLst/>
          </a:prstGeom>
          <a:ln w="0">
            <a:noFill/>
          </a:ln>
        </p:spPr>
      </p:sp>
      <p:sp>
        <p:nvSpPr>
          <p:cNvPr id="89" name="PlaceHolder 2"/>
          <p:cNvSpPr>
            <a:spLocks noGrp="1"/>
          </p:cNvSpPr>
          <p:nvPr>
            <p:ph type="body"/>
          </p:nvPr>
        </p:nvSpPr>
        <p:spPr>
          <a:xfrm>
            <a:off x="701280" y="284148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No hay judío, ni griego; no hay siervo, ni libre’ (Gálatas 3:28).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El rico y el pobre se encontraron: a todos ellos hizo Jehová’ (Proverbios 22:2).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2266920" y="615960"/>
            <a:ext cx="2259000" cy="1695600"/>
          </a:xfrm>
          <a:prstGeom prst="rect">
            <a:avLst/>
          </a:prstGeom>
          <a:ln w="0">
            <a:noFill/>
          </a:ln>
        </p:spPr>
      </p:sp>
      <p:sp>
        <p:nvSpPr>
          <p:cNvPr id="91"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El mismo que es Señor de todos, rico es para con todos los que le invocan: porque todo aquel que invocare el nombre del Señor, será salvo’ (Romanos 10:12, 13)”. – </a:t>
            </a:r>
            <a:r>
              <a:rPr b="0" i="1" lang="es-PE" sz="1200" spc="-1" strike="noStrike">
                <a:solidFill>
                  <a:srgbClr val="000000"/>
                </a:solidFill>
                <a:latin typeface="Arial"/>
              </a:rPr>
              <a:t>(Deseado de Todas las Gentes, </a:t>
            </a:r>
            <a:r>
              <a:rPr b="0" lang="es-PE" sz="1200" spc="-1" strike="noStrike">
                <a:solidFill>
                  <a:srgbClr val="000000"/>
                </a:solidFill>
                <a:latin typeface="Arial"/>
              </a:rPr>
              <a:t>p. 37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Si podemos aceptar que todos somos iguales, seguiremos el ejemplo de Cristo cuando caminó en la tierra.  Jesús no permitió que las diferencias entre las personas le impidieran ministrar a todos.  El amaba a los encumbrados del gobierno y también a los pobres y destituidos.  Su amor abarcaba a todos; los que asistían a la iglesia y los incrédulos, todos eran transformados porque su amor era constante y sin acepción de clase o nivel educativ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2195640" y="760320"/>
            <a:ext cx="2259000" cy="1695600"/>
          </a:xfrm>
          <a:prstGeom prst="rect">
            <a:avLst/>
          </a:prstGeom>
          <a:ln w="0">
            <a:noFill/>
          </a:ln>
        </p:spPr>
      </p:sp>
      <p:sp>
        <p:nvSpPr>
          <p:cNvPr id="93" name="PlaceHolder 2"/>
          <p:cNvSpPr>
            <a:spLocks noGrp="1"/>
          </p:cNvSpPr>
          <p:nvPr>
            <p:ph type="body"/>
          </p:nvPr>
        </p:nvSpPr>
        <p:spPr>
          <a:xfrm>
            <a:off x="701280" y="2487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ablo nos da la fórmula para ser lo mejor que podemos.  En Filipenses 4:13 leemos: “</a:t>
            </a:r>
            <a:r>
              <a:rPr b="0" i="1" lang="es-PE" sz="1200" spc="-1" strike="noStrike">
                <a:solidFill>
                  <a:srgbClr val="000000"/>
                </a:solidFill>
                <a:latin typeface="Arial"/>
              </a:rPr>
              <a:t>Todo lo puedo en Cristo que me fortalece.</a:t>
            </a:r>
            <a:r>
              <a:rPr b="0" lang="es-PE" sz="1200" spc="-1" strike="noStrike">
                <a:solidFill>
                  <a:srgbClr val="000000"/>
                </a:solidFill>
                <a:latin typeface="Arial"/>
              </a:rPr>
              <a:t>”  Otra traducción dice: “</a:t>
            </a:r>
            <a:r>
              <a:rPr b="0" i="1" lang="es-PE" sz="1200" spc="-1" strike="noStrike">
                <a:solidFill>
                  <a:srgbClr val="000000"/>
                </a:solidFill>
                <a:latin typeface="Arial"/>
              </a:rPr>
              <a:t>Todo lo puedo en Aquel que me da fuerza</a:t>
            </a:r>
            <a:r>
              <a:rPr b="0" lang="es-P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ara lograr todo el potencial que Dios desea para nosotros, tenemos que estar seguras que podemos hacer todas las cosas que son correctas y buenas porque Dios nos da la fuerza para hacerlas.  Su regalo para nosotros es su promesa de acompañarnos y darnos los talentos y habilidades que necesitamos para estar capacitadas para realizar su obra en esta tie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a buena frase para recordar cuando estás tentada a decir que no estás calificada para hacer un trabajo o que careces de habilidad es es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2208240" y="903240"/>
            <a:ext cx="2449440" cy="1838520"/>
          </a:xfrm>
          <a:prstGeom prst="rect">
            <a:avLst/>
          </a:prstGeom>
          <a:ln w="0">
            <a:noFill/>
          </a:ln>
        </p:spPr>
      </p:sp>
      <p:sp>
        <p:nvSpPr>
          <p:cNvPr id="95" name="PlaceHolder 2"/>
          <p:cNvSpPr>
            <a:spLocks noGrp="1"/>
          </p:cNvSpPr>
          <p:nvPr>
            <p:ph type="body"/>
          </p:nvPr>
        </p:nvSpPr>
        <p:spPr>
          <a:xfrm>
            <a:off x="701280" y="291924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a:t>
            </a:r>
            <a:r>
              <a:rPr b="1" lang="es-PE" sz="1200" spc="-1" strike="noStrike">
                <a:solidFill>
                  <a:srgbClr val="000000"/>
                </a:solidFill>
                <a:latin typeface="Arial"/>
              </a:rPr>
              <a:t>Dios no llama a los capacitados; El capacita a los llamados.”</a:t>
            </a:r>
            <a:r>
              <a:rPr b="0" lang="es-PE" sz="1200" spc="-1" strike="noStrike">
                <a:solidFill>
                  <a:srgbClr val="000000"/>
                </a:solidFill>
                <a:latin typeface="Arial"/>
              </a:rPr>
              <a:t>  Cada mujer que es llamada por Dios para trabajar por Él, puede confiar en esa promesa.  El te dará los dones que necesitas para cumplir la tare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2185920" y="615960"/>
            <a:ext cx="2494080" cy="1871640"/>
          </a:xfrm>
          <a:prstGeom prst="rect">
            <a:avLst/>
          </a:prstGeom>
          <a:ln w="0">
            <a:noFill/>
          </a:ln>
        </p:spPr>
      </p:sp>
      <p:sp>
        <p:nvSpPr>
          <p:cNvPr id="97" name="PlaceHolder 2"/>
          <p:cNvSpPr>
            <a:spLocks noGrp="1"/>
          </p:cNvSpPr>
          <p:nvPr>
            <p:ph type="body"/>
          </p:nvPr>
        </p:nvSpPr>
        <p:spPr>
          <a:xfrm>
            <a:off x="696600" y="269712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quí hay algunos pasos que puedes tomar para sentirte más a gusto cuando aceptes un nuevo desafío o trabaj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2209680" y="615960"/>
            <a:ext cx="2590920" cy="1944720"/>
          </a:xfrm>
          <a:prstGeom prst="rect">
            <a:avLst/>
          </a:prstGeom>
          <a:ln w="0">
            <a:noFill/>
          </a:ln>
        </p:spPr>
      </p:sp>
      <p:sp>
        <p:nvSpPr>
          <p:cNvPr id="99" name="PlaceHolder 2"/>
          <p:cNvSpPr>
            <a:spLocks noGrp="1"/>
          </p:cNvSpPr>
          <p:nvPr>
            <p:ph type="body"/>
          </p:nvPr>
        </p:nvSpPr>
        <p:spPr>
          <a:xfrm>
            <a:off x="701280" y="277020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1. Acepta el desafí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2. Ora que Dios estará contigo y te preparará para la tarea designa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3. Cree que El responderá a tu or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4. Estudia y busca recursos para ayudarte mientras te preparas para hacer lo que se te ha pedi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5. Anda y haz el trabajo, confiando y conociendo que Dios te acompañará y te guiará en cada paso del cami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Nadie comienza la vida conociendo lo qué va hacer y dónde va a trabajar.  Pero Dios tiene un plan para cada mujer, hombre y niñ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2290680" y="471600"/>
            <a:ext cx="2357640" cy="1768320"/>
          </a:xfrm>
          <a:prstGeom prst="rect">
            <a:avLst/>
          </a:prstGeom>
          <a:ln w="0">
            <a:noFill/>
          </a:ln>
        </p:spPr>
      </p:sp>
      <p:sp>
        <p:nvSpPr>
          <p:cNvPr id="101"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El lugar específico señalado para nosotros en la vida es determinado por nuestras aptitudes.  No todos alcanzan el mismo desarrollo, ni hacen con igual eficiencia el mismo trabajo.   Dios no espera que el hisopo adquiera las proporciones del cedro, ni que el olivo alcance la altura de la majestuosa palmera.  Pero todos deberían aspirar a la altura a que la unión del poder humano con el divino les permita alcanzar.” (</a:t>
            </a:r>
            <a:r>
              <a:rPr b="0" i="1" lang="es-PE" sz="1200" spc="-1" strike="noStrike">
                <a:solidFill>
                  <a:srgbClr val="000000"/>
                </a:solidFill>
                <a:latin typeface="Arial"/>
              </a:rPr>
              <a:t>La Educación</a:t>
            </a:r>
            <a:r>
              <a:rPr b="0" lang="es-PE" sz="1200" spc="-1" strike="noStrike">
                <a:solidFill>
                  <a:srgbClr val="000000"/>
                </a:solidFill>
                <a:latin typeface="Arial"/>
              </a:rPr>
              <a:t>, p. 259-260).</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odemos llegar al punto de sentirnos superiores gracias a nuestra riqueza, nivel de educación o nuestro origen genealógico. Nada de esto comprobará al mundo o a Dios quienes somos como individuos. Algunos a quienes consideramos que han venido de una “cuna humilde” se han levantado como obreros poderosos para la causa de Dios. Mientras tanto otros que tuvieron cada privilegio han despilfarrado sus vidas.  Por tanto, para ser sensibles culturalmente debemos tener en mente que Dios desea que cada uno alcance su potencial máximo y no permitir que raza, finanzas u otras distinciones humanas nos impidan lograr los planes de Dios para nosotro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2257560" y="760320"/>
            <a:ext cx="2206440" cy="1656000"/>
          </a:xfrm>
          <a:prstGeom prst="rect">
            <a:avLst/>
          </a:prstGeom>
          <a:ln w="0">
            <a:noFill/>
          </a:ln>
        </p:spPr>
      </p:sp>
      <p:sp>
        <p:nvSpPr>
          <p:cNvPr id="103" name="PlaceHolder 2"/>
          <p:cNvSpPr>
            <a:spLocks noGrp="1"/>
          </p:cNvSpPr>
          <p:nvPr>
            <p:ph type="body"/>
          </p:nvPr>
        </p:nvSpPr>
        <p:spPr>
          <a:xfrm>
            <a:off x="701280" y="2625480"/>
            <a:ext cx="5607000" cy="418284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Muchos no llegan a ser lo que debieran porque no ejercitan el poder que hay en ellos.  No echan mano, como debieran, de la fuerza divina.  Muchos son desviados del ramo en el cual alcanzarían verdadero éxito.  Buscando mayor honor, o una tarea más agradable, intentan algo para lo cual no están preparado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2297160" y="615960"/>
            <a:ext cx="2344680" cy="1757520"/>
          </a:xfrm>
          <a:prstGeom prst="rect">
            <a:avLst/>
          </a:prstGeom>
          <a:ln w="0">
            <a:noFill/>
          </a:ln>
        </p:spPr>
      </p:sp>
      <p:sp>
        <p:nvSpPr>
          <p:cNvPr id="105" name="PlaceHolder 2"/>
          <p:cNvSpPr>
            <a:spLocks noGrp="1"/>
          </p:cNvSpPr>
          <p:nvPr>
            <p:ph type="body"/>
          </p:nvPr>
        </p:nvSpPr>
        <p:spPr>
          <a:xfrm>
            <a:off x="917280" y="2415960"/>
            <a:ext cx="5251320" cy="504828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Más de un hombre cuyos talentos se adaptan a una profesión, tiene ambición por iniciarse en otra; y el que hubiera tenido éxito como agricultor, artesano o enfermero, ocupa inadecuadamente el puesto de ministro, abogado o médico.  Hay otros que debieran haber ocupado un puesto de responsabilidad, pero por falta de energía, aplicación o perseverancia, se contentan con un puesto más fácil.” </a:t>
            </a:r>
            <a:r>
              <a:rPr b="0" i="1" lang="es-PE" sz="1200" spc="-1" strike="noStrike">
                <a:solidFill>
                  <a:srgbClr val="000000"/>
                </a:solidFill>
                <a:latin typeface="Arial"/>
              </a:rPr>
              <a:t>(La Educación</a:t>
            </a:r>
            <a:r>
              <a:rPr b="0" lang="es-PE" sz="1200" spc="-1" strike="noStrike">
                <a:solidFill>
                  <a:srgbClr val="000000"/>
                </a:solidFill>
                <a:latin typeface="Arial"/>
              </a:rPr>
              <a:t>, p. 2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os nos estaría enseñándonos a todas las mujeres a echar mano del más alto potencial mientras consideran dónde reposan sus talentos naturales y habil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espierten entre las mujeres el deseo de lograr sus metas y sueños.  Todos los dones deben estimularse y foment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odas son diferentes pero cada persona tiene un valor y potencial prop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álogo: Dialoguen dos mujeres acerca de sus diferencias y como podrían animarse mutuamente para crecer y desarrollar sus talentos.  El ideal sería que representasen dos distintos grupos étnicos. (Permita cinco minutos para esto.  La presentadora debe coordinar esta actividad anticipa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ctividad: Separe grupos de cuatro.  Anime a las mujeres a compartir algo positivo acerca de ellas mismas y un rasgo de carácter valioso que poseen.  Luego compartan algo que creen es un don o habilidad que Dios les dio.  Ayude a las mujeres a reconocer que esta lección sobre valores y potencial las incluye a cada una de ellas como líderes. (Cinco a diez minuto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2222640" y="1192320"/>
            <a:ext cx="2493720" cy="1871640"/>
          </a:xfrm>
          <a:prstGeom prst="rect">
            <a:avLst/>
          </a:prstGeom>
          <a:ln w="0">
            <a:noFill/>
          </a:ln>
        </p:spPr>
      </p:sp>
      <p:sp>
        <p:nvSpPr>
          <p:cNvPr id="107" name="PlaceHolder 2"/>
          <p:cNvSpPr>
            <a:spLocks noGrp="1"/>
          </p:cNvSpPr>
          <p:nvPr>
            <p:ph type="body"/>
          </p:nvPr>
        </p:nvSpPr>
        <p:spPr>
          <a:xfrm>
            <a:off x="696600" y="3273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PETO POR TODOS LOS GRUPOS ÉTNICOS Y OTROS GRUPOS CULTURALMENTE DISTI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Aquel que ha perdido su sensibilidad de carácter está en peligro de perder su alma y con ella una eternidad de gozo.” </a:t>
            </a:r>
            <a:r>
              <a:rPr b="0" i="1" lang="es-PE" sz="1200" spc="-1" strike="noStrike">
                <a:solidFill>
                  <a:srgbClr val="000000"/>
                </a:solidFill>
                <a:latin typeface="Arial"/>
              </a:rPr>
              <a:t>(Manuscrito no publicado, Testimonios de Elena White</a:t>
            </a:r>
            <a:r>
              <a:rPr b="0" lang="es-ES" sz="1200" spc="-1" strike="noStrike">
                <a:solidFill>
                  <a:srgbClr val="000000"/>
                </a:solidFill>
                <a:latin typeface="Arial"/>
              </a:rPr>
              <a:t>, p. 2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uedo decir que aquella que pierde su sensibilidad de carácter está en peligro de perder su alma y con ella una eternidad de gozo. La sensibilidad es uno de los mejores rasgos de carácter.  Las mujeres que son sensibles a las necesidades y deseos de los otros tienen un rasgo de carácter esencial que le ayudará a ser una líder efectiva de los Ministerios de la Mujer.  Ella estará consciente de las diferencias culturales dentro del grupo de mujeres a quienes ella está ministra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Siempre consciente de los sentimientos y preocupaciones de otros, una mujer sensible será bondadosa, generosa y amorosa; todas buenas cualidades para una líder.  La cualidad de sensibilidad es un don de Jesús.  Es un regalo que puede cultivarse y engrandecerse dentro del corazón de cada persona.  Así como podemos elegir endurecer nuestro corazón, enfriarnos y alejarnos, también podemos elegir abrir nuestro corazón para ser suaves, amorosas, bondadosas y sensibl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2195640" y="903240"/>
            <a:ext cx="2260440" cy="1695600"/>
          </a:xfrm>
          <a:prstGeom prst="rect">
            <a:avLst/>
          </a:prstGeom>
          <a:ln w="0">
            <a:noFill/>
          </a:ln>
        </p:spPr>
      </p:sp>
      <p:sp>
        <p:nvSpPr>
          <p:cNvPr id="73" name="PlaceHolder 2"/>
          <p:cNvSpPr>
            <a:spLocks noGrp="1"/>
          </p:cNvSpPr>
          <p:nvPr>
            <p:ph type="body"/>
          </p:nvPr>
        </p:nvSpPr>
        <p:spPr>
          <a:xfrm>
            <a:off x="701280" y="263196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n este seminario trataremos la Sensibilidad Cultural en las siguientes áre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1. Comprender el valor y potencial de cada individuo sin importar su origen étnico, ocupación, edad o intereses especi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2. Comprender cómo nuestro comportamiento afecta a otros.  ¿Qué efecto duradero dejará?</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3. Eliminar nuestra tendencia a estéreo-tipificar a la g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4. Respeto por la manera como otras personas viven y por sus elec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5. Respeto por todos los grupos étnico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2138400" y="471600"/>
            <a:ext cx="2590920" cy="1944720"/>
          </a:xfrm>
          <a:prstGeom prst="rect">
            <a:avLst/>
          </a:prstGeom>
          <a:ln w="0">
            <a:noFill/>
          </a:ln>
        </p:spPr>
      </p:sp>
      <p:sp>
        <p:nvSpPr>
          <p:cNvPr id="109" name="PlaceHolder 2"/>
          <p:cNvSpPr>
            <a:spLocks noGrp="1"/>
          </p:cNvSpPr>
          <p:nvPr>
            <p:ph type="body"/>
          </p:nvPr>
        </p:nvSpPr>
        <p:spPr>
          <a:xfrm>
            <a:off x="701280" y="262548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La evidencia más segura de que Jesús vive en el templo del alma es: hay una sensibilidad al pecado, una ternura de conciencia y la percepción creciente de la preciosidad de Jesús.  El nombre de Jesús parece lleno de fragancia.  Hay un vivo sentir que el alma está conectada con el poder divino, porque el corazón simpatiza con su mente y propósito.” (</a:t>
            </a:r>
            <a:r>
              <a:rPr b="0" i="1" lang="es-PE" sz="1200" spc="-1" strike="noStrike">
                <a:solidFill>
                  <a:srgbClr val="000000"/>
                </a:solidFill>
                <a:latin typeface="Arial"/>
              </a:rPr>
              <a:t>Manuscrito </a:t>
            </a:r>
            <a:r>
              <a:rPr b="0" lang="es-PE" sz="1200" spc="-1" strike="noStrike">
                <a:solidFill>
                  <a:srgbClr val="000000"/>
                </a:solidFill>
                <a:latin typeface="Arial"/>
              </a:rPr>
              <a:t>48, 1890, p. 9.)</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171880" y="471600"/>
            <a:ext cx="2450880" cy="1839960"/>
          </a:xfrm>
          <a:prstGeom prst="rect">
            <a:avLst/>
          </a:prstGeom>
          <a:ln w="0">
            <a:noFill/>
          </a:ln>
        </p:spPr>
      </p:sp>
      <p:sp>
        <p:nvSpPr>
          <p:cNvPr id="111"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Nuestra sensibilidad cultural personal depende en gran manera de nuestra relación con Jesús.  Cuanto más cerca sea esta relación, más sensibles seremos con las personas dentro de cada cultura.  Jesús proveyó el ejemplo perfecto para nosotros.  Podemos imitarlo y crear una atmósfera más bondadosa y gentil para toda la gente sin acepción de cult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Que las bendiciones de Dios reposen sobre todas aquellas que recuerdan que cada persona es nuestra hermana o herman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2149560" y="471600"/>
            <a:ext cx="2206440" cy="1655640"/>
          </a:xfrm>
          <a:prstGeom prst="rect">
            <a:avLst/>
          </a:prstGeom>
          <a:ln w="0">
            <a:noFill/>
          </a:ln>
        </p:spPr>
      </p:sp>
      <p:sp>
        <p:nvSpPr>
          <p:cNvPr id="75" name="PlaceHolder 2"/>
          <p:cNvSpPr>
            <a:spLocks noGrp="1"/>
          </p:cNvSpPr>
          <p:nvPr>
            <p:ph type="body"/>
          </p:nvPr>
        </p:nvSpPr>
        <p:spPr>
          <a:xfrm>
            <a:off x="701280" y="21999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1 Juan 3:1</a:t>
            </a:r>
            <a:r>
              <a:rPr b="0" lang="es-PE" sz="1200" spc="-1" strike="noStrike">
                <a:solidFill>
                  <a:srgbClr val="000000"/>
                </a:solidFill>
                <a:latin typeface="Arial"/>
              </a:rPr>
              <a:t> </a:t>
            </a:r>
            <a:r>
              <a:rPr b="0" i="1" lang="es-PE" sz="1200" spc="-1" strike="noStrike">
                <a:solidFill>
                  <a:srgbClr val="000000"/>
                </a:solidFill>
                <a:latin typeface="Arial"/>
              </a:rPr>
              <a:t>“Mirad cuál amor nos ha dado el Padre, que seamos llamados hijos de Dios”</a:t>
            </a:r>
            <a:r>
              <a:rPr b="0" lang="es-PE" sz="1200" spc="-1" strike="noStrike">
                <a:solidFill>
                  <a:srgbClr val="000000"/>
                </a:solidFill>
                <a:latin typeface="Arial"/>
              </a:rPr>
              <a:t> (La palabra ‘hijos’ aquí se usa en sentido genérico e incluye a las mujeres.)  Cuando pensamos en el hecho de que nuestro Padre Celestial envió a su Hijo a morir por nosotros, enfatiza el valor que Él pone en cada uno de nosotros.  Si fuésemos la única persona que necesitara de salvación, Jesús hubiera muerto por esa solo alma.  Tal amor no tiene pa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2211480" y="544680"/>
            <a:ext cx="2301840" cy="1726920"/>
          </a:xfrm>
          <a:prstGeom prst="rect">
            <a:avLst/>
          </a:prstGeom>
          <a:ln w="0">
            <a:noFill/>
          </a:ln>
        </p:spPr>
      </p:sp>
      <p:sp>
        <p:nvSpPr>
          <p:cNvPr id="77" name="PlaceHolder 2"/>
          <p:cNvSpPr>
            <a:spLocks noGrp="1"/>
          </p:cNvSpPr>
          <p:nvPr>
            <p:ph type="body"/>
          </p:nvPr>
        </p:nvSpPr>
        <p:spPr>
          <a:xfrm>
            <a:off x="701280" y="233676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Quién puede estimar el valor de un alma? Si queréis saber su valor, id al Getsemaní, y allí velad con Cristo durante esas horas de angustia, cuando su sudor es como grandes gotas de sangre. Mirad al Salvador pendiente de la cruz. Oíd su clamor desesperado: ‘Dios mío, Dios mío, ¿por qué me has desamparado?’ Mirad la cabeza herida, el costado atravesado, los pies maltrechos. Recordad que Cristo lo arriesgó todo. Por nuestra redención el cielo mismo se puso en peligro. Podréis estimar el valor de un alma al pie de la cruz, recordando que Cristo habría entregado su vida por un solo pecador” – </a:t>
            </a:r>
            <a:r>
              <a:rPr b="0" i="1" lang="es-PE" sz="1200" spc="-1" strike="noStrike">
                <a:solidFill>
                  <a:srgbClr val="000000"/>
                </a:solidFill>
                <a:latin typeface="Arial"/>
              </a:rPr>
              <a:t>(Palabras de Vida del Gran Maestro, p. 13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ada persona es diferente y tiene un valor.  Todos han recibido varios talentos.  Dios, nuestro Creador se cercioró de no hacer a dos personas iguales.  El color de su piel, atributos físicos, ocupaciones, religión, país de origen, o trasfondos familiares nos distinguen de otras personas, pero ante Dios todos somos sus hi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palabra casta ha llegado a ser muy común para diferenciar entre varias clases de personas.  El diccionario la define así: “cualquier clase social exclusiva.”  Posiblemente no nos damos cuenta cuando colocamos a las personas en diferentes grupos sociales.  Algunos piensan que otros son de menor valor por su nivel social.  Dios no trata a las personas de esta manera.  Para Él somos todos de la misma clase.  El nos valora como sus amados hijos.  Necesitamos eliminar la casta de nuestros pensamientos y comportamient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2075040" y="615960"/>
            <a:ext cx="2357280" cy="1766880"/>
          </a:xfrm>
          <a:prstGeom prst="rect">
            <a:avLst/>
          </a:prstGeom>
          <a:ln w="0">
            <a:noFill/>
          </a:ln>
        </p:spPr>
      </p:sp>
      <p:sp>
        <p:nvSpPr>
          <p:cNvPr id="79"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Para Dios no hay castas. El ignora cuanto se asemeje a ello. Todas las almas tienen valor para él. El trabajar por la salvación de las almas es un empleo digno del más grande honor. No importa cuál sea la forma de nuestra labor, ni entre qué clase se verifique, ora sea elevada o humilde. A los ojos de Dios estas distinciones no afectan su verdadero valor. El alma sincera, ferviente y contrita, por ignorante que sea, es preciosa a la vista del Señor. El pone su propia señal sobre los hombres, juzgándolos, no por su jerarquía, ni por su riqueza, ni por su grandeza intelectual, sino por su unidad con Crist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2222640" y="687240"/>
            <a:ext cx="2493720" cy="1871640"/>
          </a:xfrm>
          <a:prstGeom prst="rect">
            <a:avLst/>
          </a:prstGeom>
          <a:ln w="0">
            <a:noFill/>
          </a:ln>
        </p:spPr>
      </p:sp>
      <p:sp>
        <p:nvSpPr>
          <p:cNvPr id="81" name="PlaceHolder 2"/>
          <p:cNvSpPr>
            <a:spLocks noGrp="1"/>
          </p:cNvSpPr>
          <p:nvPr>
            <p:ph type="body"/>
          </p:nvPr>
        </p:nvSpPr>
        <p:spPr>
          <a:xfrm>
            <a:off x="701280" y="2625480"/>
            <a:ext cx="5607000" cy="418284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l ignorante, el paria, el esclavo, si ha aprovechado hasta el máximo grado sus oportunidades y privilegios, si ha apreciado la luz que Dios le dio, ha hecho todo cuanto se pedía de él. El mundo puede llamarlo ignorante pero Dios lo llama sabio y bueno, y así su nombre queda registrado en los libros del cielo. Dios lo hará idóneo para que le reporte honor, no sólo en el cielo, sino también en la tierra” – </a:t>
            </a:r>
            <a:r>
              <a:rPr b="0" i="1" lang="es-PE" sz="1200" spc="-1" strike="noStrike">
                <a:solidFill>
                  <a:srgbClr val="000000"/>
                </a:solidFill>
                <a:latin typeface="Arial"/>
              </a:rPr>
              <a:t>(Evangelismo, p. 412)</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24000" y="544680"/>
            <a:ext cx="2546280" cy="1911240"/>
          </a:xfrm>
          <a:prstGeom prst="rect">
            <a:avLst/>
          </a:prstGeom>
          <a:ln w="0">
            <a:noFill/>
          </a:ln>
        </p:spPr>
      </p:sp>
      <p:sp>
        <p:nvSpPr>
          <p:cNvPr id="83" name="PlaceHolder 2"/>
          <p:cNvSpPr>
            <a:spLocks noGrp="1"/>
          </p:cNvSpPr>
          <p:nvPr>
            <p:ph type="body"/>
          </p:nvPr>
        </p:nvSpPr>
        <p:spPr>
          <a:xfrm>
            <a:off x="701280" y="256068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En el libro, El Deseado de Todas las Gentes, p. 370, encontramos las siguientes palabras:</a:t>
            </a:r>
            <a:r>
              <a:rPr b="0" lang="es-PE"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Las castas son aborrecibles para Dios.  El desconoce cuanto tenga ese carácter.  A su vista las almas de todos los hombres tienen igual valor.” – </a:t>
            </a:r>
            <a:r>
              <a:rPr b="0" i="1" lang="es-PE" sz="1200" spc="-1" strike="noStrike">
                <a:solidFill>
                  <a:srgbClr val="000000"/>
                </a:solidFill>
                <a:latin typeface="Arial"/>
              </a:rPr>
              <a:t>(El Deseado de Todas las Gentes, p. 3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s una idea humana separar a las personas en diferentes clases y elevar las diversas razas, ocupaciones y personalidades sobre otras. Dios cree en todas las personas y quiere que todos conozcamos que somos valoradas muy altamente por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asualmente, cuando la Biblia o el Espíritu de Profecía usa el término “hombre” usualmente hablan de la humanidad y de todas las personas; hombres y mujeres están incluidos en este términ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257560" y="615960"/>
            <a:ext cx="2350800" cy="1765440"/>
          </a:xfrm>
          <a:prstGeom prst="rect">
            <a:avLst/>
          </a:prstGeom>
          <a:ln w="0">
            <a:noFill/>
          </a:ln>
        </p:spPr>
      </p:sp>
      <p:sp>
        <p:nvSpPr>
          <p:cNvPr id="85"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Our </a:t>
            </a:r>
            <a:r>
              <a:rPr b="1" i="1" lang="en-US" sz="1200" spc="-1" strike="noStrike">
                <a:solidFill>
                  <a:srgbClr val="000000"/>
                </a:solidFill>
                <a:latin typeface="Garamond"/>
              </a:rPr>
              <a:t>Desire of </a:t>
            </a:r>
            <a:r>
              <a:rPr b="1" lang="en-US" sz="1200" spc="-1" strike="noStrike">
                <a:solidFill>
                  <a:srgbClr val="000000"/>
                </a:solidFill>
                <a:latin typeface="Garamond"/>
              </a:rPr>
              <a:t>Ages quote continu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De una sangre ha hecho todo el linaje de los hombres, para que habitasen sobre toda la faz de la tierra; y les ha prefijado el orden de los tiempos, y los términos de la habitación de ellos; para que buscasen a Dios, si en alguna manera, palpando, le hallen; aunque cierto no está lejos de cada uno de nosotros’ (Hechos 17:26,27).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219400" y="687240"/>
            <a:ext cx="2357280" cy="1766880"/>
          </a:xfrm>
          <a:prstGeom prst="rect">
            <a:avLst/>
          </a:prstGeom>
          <a:ln w="0">
            <a:noFill/>
          </a:ln>
        </p:spPr>
      </p:sp>
      <p:sp>
        <p:nvSpPr>
          <p:cNvPr id="87" name="PlaceHolder 2"/>
          <p:cNvSpPr>
            <a:spLocks noGrp="1"/>
          </p:cNvSpPr>
          <p:nvPr>
            <p:ph type="body"/>
          </p:nvPr>
        </p:nvSpPr>
        <p:spPr>
          <a:xfrm>
            <a:off x="701280" y="248760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Sin distinción de edad, jerarquía, nacionalidad o privilegio religioso, todos están invitados a venir a él y vivir ‘Todo aquel que en él creyere, no será avergonzado. Porque no hay diferencia’ (Romanos 10:11,12).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F535B-6EF8-4DDE-A326-5D3C48712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DBAA9-FDE5-4D28-821E-2F45E4A15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86785-CA31-401A-BC52-4593877BE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D9891-06D3-4F1E-85EB-AE37AA023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D87C0-605E-4CE0-B82D-CBF97E3F0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46D94-E782-46D9-877F-2F4EE6AFC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F3DFF-16CA-4CB5-9D48-82CDCF644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3F2B7-53C6-440B-B955-A974375CF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25D1A-4DF5-4CA6-907B-2DC708D2A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A1AD8-A6B6-4F3F-88AF-2A064C05A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66B28-46DF-4A42-B0FE-8DB75F24C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B8899-3437-4EE4-8163-6AFFCE1DC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1E0B-8697-4B79-8E5E-419539BE70F1}"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123920"/>
            <a:ext cx="8229600" cy="165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800" spc="-1" strike="noStrike">
                <a:solidFill>
                  <a:srgbClr val="ffffff"/>
                </a:solidFill>
                <a:latin typeface="Comic Sans MS"/>
              </a:rPr>
              <a:t>Sensibilidad Cultural</a:t>
            </a:r>
            <a:br>
              <a:rPr sz="4000"/>
            </a:br>
            <a:r>
              <a:rPr b="1" lang="es-PE" sz="2800" spc="-1" strike="noStrike">
                <a:solidFill>
                  <a:srgbClr val="ffffff"/>
                </a:solidFill>
                <a:latin typeface="Comic Sans MS"/>
              </a:rPr>
              <a:t>Por:</a:t>
            </a:r>
            <a:br>
              <a:rPr sz="2800"/>
            </a:br>
            <a:r>
              <a:rPr b="1" lang="es-PE" sz="2800" spc="-1" strike="noStrike">
                <a:solidFill>
                  <a:srgbClr val="ffffff"/>
                </a:solidFill>
                <a:latin typeface="Comic Sans MS"/>
              </a:rPr>
              <a:t>Evelyn Glass</a:t>
            </a:r>
            <a:br>
              <a:rPr sz="2800"/>
            </a:br>
            <a:endParaRPr b="0" lang="en-US" sz="2800" spc="-1" strike="noStrike">
              <a:solidFill>
                <a:srgbClr val="000000"/>
              </a:solidFill>
              <a:latin typeface="Arial"/>
            </a:endParaRPr>
          </a:p>
        </p:txBody>
      </p:sp>
      <p:sp>
        <p:nvSpPr>
          <p:cNvPr id="49" name=""/>
          <p:cNvSpPr/>
          <p:nvPr/>
        </p:nvSpPr>
        <p:spPr>
          <a:xfrm>
            <a:off x="539640" y="4468680"/>
            <a:ext cx="525636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entury"/>
              </a:rPr>
              <a:t>MINISTERIOS DE LA MUJE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entury"/>
              </a:rPr>
              <a:t>Certificación de Liderazg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entury"/>
              </a:rPr>
              <a:t>Nivel 3</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1549B58-27C7-456A-B9FB-C5CACDD379DB}"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900000" y="1383840"/>
            <a:ext cx="7704360" cy="265356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BernhardMod BT"/>
              </a:rPr>
              <a:t>‘</a:t>
            </a:r>
            <a:r>
              <a:rPr b="0" lang="es-PE" sz="2800" spc="-1" strike="noStrike">
                <a:solidFill>
                  <a:srgbClr val="ffffff"/>
                </a:solidFill>
                <a:latin typeface="BernhardMod BT"/>
              </a:rPr>
              <a:t>No hay judío, ni griego; no hay siervo, ni libre” (Gálatas 3:28). </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BernhardMod BT"/>
              </a:rPr>
              <a:t>‘</a:t>
            </a:r>
            <a:r>
              <a:rPr b="0" lang="es-PE" sz="2800" spc="-1" strike="noStrike">
                <a:solidFill>
                  <a:srgbClr val="ffffff"/>
                </a:solidFill>
                <a:latin typeface="BernhardMod BT"/>
              </a:rPr>
              <a:t>El rico y el pobre se encontraron: a todos ellos hizo Jehová’ (Proverbios 22:2).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897CDBC7-9152-40E7-82F1-8D13C6319A88}"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339920"/>
            <a:ext cx="8229600" cy="345744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Arial"/>
              </a:rPr>
              <a:t>	</a:t>
            </a:r>
            <a:r>
              <a:rPr b="0" lang="es-PE" sz="3200" spc="-1" strike="noStrike">
                <a:solidFill>
                  <a:srgbClr val="ffffff"/>
                </a:solidFill>
                <a:latin typeface="Arial"/>
              </a:rPr>
              <a:t>‘</a:t>
            </a:r>
            <a:r>
              <a:rPr b="0" lang="es-PE" sz="3200" spc="-1" strike="noStrike">
                <a:solidFill>
                  <a:srgbClr val="ffffff"/>
                </a:solidFill>
                <a:latin typeface="Arial"/>
              </a:rPr>
              <a:t>El mismo que es Señor de todos, rico es para con todos los que le invocan: porque todo aquel que invocare el nombre del Señor, será salvo’ (Romanos 10:12, 13)”.  </a:t>
            </a:r>
            <a:r>
              <a:rPr b="0" i="1" lang="es-PE" sz="2800" spc="-1" strike="noStrike">
                <a:solidFill>
                  <a:srgbClr val="ffffff"/>
                </a:solidFill>
                <a:latin typeface="Arial"/>
              </a:rPr>
              <a:t>(Deseado de Todas las Gentes, </a:t>
            </a:r>
            <a:r>
              <a:rPr b="0" lang="es-PE" sz="2800" spc="-1" strike="noStrike">
                <a:solidFill>
                  <a:srgbClr val="ffffff"/>
                </a:solidFill>
                <a:latin typeface="Arial"/>
              </a:rPr>
              <a:t>p. 37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14D7FE2-CB7F-4719-92D1-099812D17E19}"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590400" y="2131560"/>
            <a:ext cx="8229600" cy="2521080"/>
          </a:xfrm>
          <a:prstGeom prst="rect">
            <a:avLst/>
          </a:prstGeom>
          <a:noFill/>
          <a:ln w="0">
            <a:noFill/>
          </a:ln>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800" spc="-1" strike="noStrike">
                <a:solidFill>
                  <a:srgbClr val="ffffff"/>
                </a:solidFill>
                <a:latin typeface="Arial"/>
              </a:rPr>
              <a:t>“</a:t>
            </a:r>
            <a:r>
              <a:rPr b="0" i="1" lang="es-PE" sz="2800" spc="-1" strike="noStrike">
                <a:solidFill>
                  <a:srgbClr val="ffffff"/>
                </a:solidFill>
                <a:latin typeface="Arial"/>
              </a:rPr>
              <a:t>Todo lo puedo en Cristo que me fortalece.”  Otra traducción dice: “Todo lo puedo en Aquel que me da fuerza.”</a:t>
            </a:r>
            <a:br>
              <a:rPr sz="2800"/>
            </a:br>
            <a:r>
              <a:rPr b="0" i="1" lang="es-PE" sz="2800" spc="-1" strike="noStrike">
                <a:solidFill>
                  <a:srgbClr val="ffffff"/>
                </a:solidFill>
                <a:latin typeface="BernhardMod BT"/>
              </a:rPr>
              <a:t>(Filipenses 4:13)</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BD064FB-8837-4431-8270-F05D54880024}"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2535120"/>
            <a:ext cx="8229600" cy="17575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ernhardMod BT"/>
              </a:rPr>
              <a:t> </a:t>
            </a:r>
            <a:r>
              <a:rPr b="0" lang="es-PE" sz="3600" spc="-1" strike="noStrike">
                <a:solidFill>
                  <a:srgbClr val="ffffff"/>
                </a:solidFill>
                <a:latin typeface="Times New Roman"/>
              </a:rPr>
              <a:t>“</a:t>
            </a:r>
            <a:r>
              <a:rPr b="0" lang="es-PE" sz="3600" spc="-1" strike="noStrike">
                <a:solidFill>
                  <a:srgbClr val="ffffff"/>
                </a:solidFill>
                <a:latin typeface="Times New Roman"/>
              </a:rPr>
              <a:t>Dios no llama a los capacitados; Él capacita a los llamados.”</a:t>
            </a:r>
            <a:r>
              <a:rPr b="0" lang="es-PE" sz="3600" spc="-1" strike="noStrike">
                <a:solidFill>
                  <a:srgbClr val="ffffff"/>
                </a:solidFill>
                <a:latin typeface="BernhardMod BT"/>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2080F5D3-2D4E-4511-85FB-350A570C18D1}"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441440" y="2203200"/>
            <a:ext cx="7091280" cy="24325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Aquí hay algunos pasos que puedes tomar para sentirte más a gusto cuando aceptes un nuevo desafío o trabajo:</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F801A033-5115-4FCA-B1F5-75095A90F065}"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826560" y="1052640"/>
            <a:ext cx="7705800" cy="44640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1.</a:t>
            </a:r>
            <a:r>
              <a:rPr b="0" lang="es-PE" sz="3200" spc="-1" strike="noStrike">
                <a:solidFill>
                  <a:srgbClr val="ffffff"/>
                </a:solidFill>
                <a:latin typeface="Times New Roman"/>
              </a:rPr>
              <a:t>	</a:t>
            </a:r>
            <a:r>
              <a:rPr b="0" lang="es-PE" sz="3200" spc="-1" strike="noStrike">
                <a:solidFill>
                  <a:srgbClr val="ffffff"/>
                </a:solidFill>
                <a:latin typeface="Times New Roman"/>
              </a:rPr>
              <a:t>Acepta el desafí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2.</a:t>
            </a:r>
            <a:r>
              <a:rPr b="0" lang="es-PE" sz="3200" spc="-1" strike="noStrike">
                <a:solidFill>
                  <a:srgbClr val="ffffff"/>
                </a:solidFill>
                <a:latin typeface="Times New Roman"/>
              </a:rPr>
              <a:t>	</a:t>
            </a:r>
            <a:r>
              <a:rPr b="0" lang="es-PE" sz="3200" spc="-1" strike="noStrike">
                <a:solidFill>
                  <a:srgbClr val="ffffff"/>
                </a:solidFill>
                <a:latin typeface="Times New Roman"/>
              </a:rPr>
              <a:t>Ora que Dios estará contigo y te preparará para la tarea designad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3.</a:t>
            </a:r>
            <a:r>
              <a:rPr b="0" lang="es-PE" sz="3200" spc="-1" strike="noStrike">
                <a:solidFill>
                  <a:srgbClr val="ffffff"/>
                </a:solidFill>
                <a:latin typeface="Times New Roman"/>
              </a:rPr>
              <a:t>	</a:t>
            </a:r>
            <a:r>
              <a:rPr b="0" lang="es-PE" sz="3200" spc="-1" strike="noStrike">
                <a:solidFill>
                  <a:srgbClr val="ffffff"/>
                </a:solidFill>
                <a:latin typeface="Times New Roman"/>
              </a:rPr>
              <a:t>Cree que Él responderá a tu oración</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4.</a:t>
            </a:r>
            <a:r>
              <a:rPr b="0" lang="es-PE" sz="3200" spc="-1" strike="noStrike">
                <a:solidFill>
                  <a:srgbClr val="ffffff"/>
                </a:solidFill>
                <a:latin typeface="Times New Roman"/>
              </a:rPr>
              <a:t>	</a:t>
            </a:r>
            <a:r>
              <a:rPr b="0" lang="es-PE" sz="3200" spc="-1" strike="noStrike">
                <a:solidFill>
                  <a:srgbClr val="ffffff"/>
                </a:solidFill>
                <a:latin typeface="Times New Roman"/>
              </a:rPr>
              <a:t>Estudia y busca recursos para ayudarte mientras te preparas para hacer lo que se te ha pedid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5.</a:t>
            </a:r>
            <a:r>
              <a:rPr b="0" lang="es-PE" sz="3200" spc="-1" strike="noStrike">
                <a:solidFill>
                  <a:srgbClr val="ffffff"/>
                </a:solidFill>
                <a:latin typeface="Times New Roman"/>
              </a:rPr>
              <a:t>	</a:t>
            </a:r>
            <a:r>
              <a:rPr b="0" lang="es-PE" sz="3200" spc="-1" strike="noStrike">
                <a:solidFill>
                  <a:srgbClr val="ffffff"/>
                </a:solidFill>
                <a:latin typeface="Times New Roman"/>
              </a:rPr>
              <a:t>Anda y haz el trabajo.</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A0C4701-FBC6-4224-9380-847566B47A0C}"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684360" y="218520"/>
            <a:ext cx="8137440" cy="557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a:t>
            </a:r>
            <a:r>
              <a:rPr b="0" lang="es-PE" sz="3200" spc="-1" strike="noStrike">
                <a:solidFill>
                  <a:srgbClr val="ffffff"/>
                </a:solidFill>
                <a:latin typeface="Times New Roman"/>
              </a:rPr>
              <a:t>El lugar específico señalado para nosotros en la vida es determinado por nuestras aptitudes.  No todos alcanzan el mismo desarrollo, ni hacen con igual eficiencia el mismo trabajo.   Dios no espera que el hisopo adquiera las proporciones del cedro, ni que el olivo alcance la altura de la majestuosa palmera.  Pero todos deberían aspirar a la altura a que la unión del poder humano con el divino les permita alcanzar.”</a:t>
            </a:r>
            <a:r>
              <a:rPr b="0" lang="es-PE" sz="3200" spc="-1" strike="noStrike">
                <a:solidFill>
                  <a:srgbClr val="ffffff"/>
                </a:solidFill>
                <a:latin typeface="BernhardMod BT"/>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Times New Roman"/>
              </a:rPr>
              <a:t>(</a:t>
            </a:r>
            <a:r>
              <a:rPr b="0" i="1" lang="es-PE" sz="2400" spc="-1" strike="noStrike">
                <a:solidFill>
                  <a:srgbClr val="ffffff"/>
                </a:solidFill>
                <a:latin typeface="Times New Roman"/>
              </a:rPr>
              <a:t>La Educación</a:t>
            </a:r>
            <a:r>
              <a:rPr b="0" lang="es-PE" sz="2400" spc="-1" strike="noStrike">
                <a:solidFill>
                  <a:srgbClr val="ffffff"/>
                </a:solidFill>
                <a:latin typeface="Times New Roman"/>
              </a:rPr>
              <a:t>, p. 259-26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11022AB-DC8F-43C9-A16D-276F92446DAE}"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971640" y="766080"/>
            <a:ext cx="7777080" cy="38462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a:t>
            </a:r>
            <a:r>
              <a:rPr b="0" lang="es-PE" sz="3200" spc="-1" strike="noStrike">
                <a:solidFill>
                  <a:srgbClr val="ffffff"/>
                </a:solidFill>
                <a:latin typeface="Times New Roman"/>
              </a:rPr>
              <a:t>Muchos no llegan a ser lo que debieran porque no ejercitan el poder que hay en ellos.  No echan mano, como debieran, de la fuerza divina.  Muchos son desviados del ramo en el cual alcanzarían verdadero éxito.  Buscando mayor honor, o una tarea más agradable, intentan algo para lo cual no están preparados. </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D5F6F709-6415-421A-9EF0-5845260A3067}"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24000" y="404640"/>
            <a:ext cx="8229600" cy="5400720"/>
          </a:xfrm>
          <a:prstGeom prst="rect">
            <a:avLst/>
          </a:prstGeom>
          <a:noFill/>
          <a:ln w="0">
            <a:noFill/>
          </a:ln>
        </p:spPr>
        <p:txBody>
          <a:bodyPr lIns="90000" rIns="90000" tIns="46800" bIns="4680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nhardMod BT"/>
              </a:rPr>
              <a:t>   </a:t>
            </a:r>
            <a:r>
              <a:rPr b="0" lang="es-PE" sz="3200" spc="-1" strike="noStrike">
                <a:solidFill>
                  <a:srgbClr val="ffffff"/>
                </a:solidFill>
                <a:latin typeface="Arial"/>
              </a:rPr>
              <a:t>Más de un hombre cuyos talentos se adaptan a una profesión, tiene ambición por iniciarse en otra; y el que hubiera tenido éxito como agricultor, artesano o enfermero, ocupa inadecuadamente el puesto de ministro, abogado o médico.  Hay otros que debieran haber ocupado un puesto de responsabilidad, pero por falta de energía, aplicación o perseverancia, se contentan con un puesto más fácil.” </a:t>
            </a:r>
            <a:endParaRPr b="0" lang="en-US" sz="32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Arial"/>
              </a:rPr>
              <a:t>	</a:t>
            </a:r>
            <a:r>
              <a:rPr b="0" i="1" lang="es-PE" sz="2800" spc="-1" strike="noStrike">
                <a:solidFill>
                  <a:srgbClr val="ffffff"/>
                </a:solidFill>
                <a:latin typeface="Arial"/>
              </a:rPr>
              <a:t>(La Educación</a:t>
            </a:r>
            <a:r>
              <a:rPr b="0" lang="es-PE" sz="2800" spc="-1" strike="noStrike">
                <a:solidFill>
                  <a:srgbClr val="ffffff"/>
                </a:solidFill>
                <a:latin typeface="Arial"/>
              </a:rPr>
              <a:t>, p. 26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76409E9-F67A-400C-A957-04826D9410FA}"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735120" y="1916280"/>
            <a:ext cx="8229600" cy="290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Arial"/>
              </a:rPr>
              <a:t>	</a:t>
            </a:r>
            <a:r>
              <a:rPr b="0" lang="es-PE" sz="3200" spc="-1" strike="noStrike">
                <a:solidFill>
                  <a:srgbClr val="ffffff"/>
                </a:solidFill>
                <a:latin typeface="Times New Roman"/>
              </a:rPr>
              <a:t>“</a:t>
            </a:r>
            <a:r>
              <a:rPr b="0" lang="es-PE" sz="3200" spc="-1" strike="noStrike">
                <a:solidFill>
                  <a:srgbClr val="ffffff"/>
                </a:solidFill>
                <a:latin typeface="Times New Roman"/>
              </a:rPr>
              <a:t>Aquel que ha perdido su sensibilidad de carácter está en peligro de perder su alma y con ella una eternidad de gozo.” </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BernhardMod BT"/>
              </a:rPr>
              <a:t>	</a:t>
            </a:r>
            <a:r>
              <a:rPr b="0" i="1" lang="es-PE" sz="2800" spc="-1" strike="noStrike">
                <a:solidFill>
                  <a:srgbClr val="ffffff"/>
                </a:solidFill>
                <a:latin typeface="Times New Roman"/>
              </a:rPr>
              <a:t>(Manuscrito no publicado, Testimonios de Elena White</a:t>
            </a:r>
            <a:r>
              <a:rPr b="0" lang="es-ES" sz="2800" spc="-1" strike="noStrike">
                <a:solidFill>
                  <a:srgbClr val="ffffff"/>
                </a:solidFill>
                <a:latin typeface="Times New Roman"/>
              </a:rPr>
              <a:t>, p. 299.4).</a:t>
            </a: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0CDF2A0-00EC-49BC-8DFB-79EE26AE0A71}"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Arial Narrow"/>
              </a:rPr>
              <a:t>En este seminario hablaremos sobre la Sensibilidad Cultural en las siguientes áreas:</a:t>
            </a:r>
            <a:endParaRPr b="0" lang="en-US" sz="3200" spc="-1" strike="noStrike">
              <a:solidFill>
                <a:srgbClr val="000000"/>
              </a:solidFill>
              <a:latin typeface="Arial"/>
            </a:endParaRPr>
          </a:p>
        </p:txBody>
      </p:sp>
      <p:sp>
        <p:nvSpPr>
          <p:cNvPr id="51" name="PlaceHolder 2"/>
          <p:cNvSpPr>
            <a:spLocks noGrp="1"/>
          </p:cNvSpPr>
          <p:nvPr>
            <p:ph/>
          </p:nvPr>
        </p:nvSpPr>
        <p:spPr>
          <a:xfrm>
            <a:off x="468360" y="1557000"/>
            <a:ext cx="8229600" cy="50403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1.</a:t>
            </a:r>
            <a:r>
              <a:rPr b="0" lang="es-PE" sz="2800" spc="-1" strike="noStrike">
                <a:solidFill>
                  <a:srgbClr val="ffffff"/>
                </a:solidFill>
                <a:latin typeface="Arial"/>
              </a:rPr>
              <a:t>	</a:t>
            </a:r>
            <a:r>
              <a:rPr b="0" lang="es-PE" sz="2800" spc="-1" strike="noStrike">
                <a:solidFill>
                  <a:srgbClr val="ffffff"/>
                </a:solidFill>
                <a:latin typeface="Arial"/>
              </a:rPr>
              <a:t>Comprender el valor y potencial de cada individuo sin importar su origen étnico, ocupación, edad o intereses especial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2.</a:t>
            </a:r>
            <a:r>
              <a:rPr b="0" lang="es-PE" sz="2800" spc="-1" strike="noStrike">
                <a:solidFill>
                  <a:srgbClr val="ffffff"/>
                </a:solidFill>
                <a:latin typeface="Arial"/>
              </a:rPr>
              <a:t>	</a:t>
            </a:r>
            <a:r>
              <a:rPr b="0" lang="es-PE" sz="2800" spc="-1" strike="noStrike">
                <a:solidFill>
                  <a:srgbClr val="ffffff"/>
                </a:solidFill>
                <a:latin typeface="Arial"/>
              </a:rPr>
              <a:t>Comprender cómo nuestro comportamiento afecta a otros.  ¿Qué efecto duradero dejará?</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3.</a:t>
            </a:r>
            <a:r>
              <a:rPr b="0" lang="es-PE" sz="2800" spc="-1" strike="noStrike">
                <a:solidFill>
                  <a:srgbClr val="ffffff"/>
                </a:solidFill>
                <a:latin typeface="Arial"/>
              </a:rPr>
              <a:t>	</a:t>
            </a:r>
            <a:r>
              <a:rPr b="0" lang="es-PE" sz="2800" spc="-1" strike="noStrike">
                <a:solidFill>
                  <a:srgbClr val="ffffff"/>
                </a:solidFill>
                <a:latin typeface="Arial"/>
              </a:rPr>
              <a:t>Eliminar nuestra tendencia a estéreo-tipificar a la gent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4.</a:t>
            </a:r>
            <a:r>
              <a:rPr b="0" lang="es-PE" sz="2800" spc="-1" strike="noStrike">
                <a:solidFill>
                  <a:srgbClr val="ffffff"/>
                </a:solidFill>
                <a:latin typeface="Arial"/>
              </a:rPr>
              <a:t>	</a:t>
            </a:r>
            <a:r>
              <a:rPr b="0" lang="es-PE" sz="2800" spc="-1" strike="noStrike">
                <a:solidFill>
                  <a:srgbClr val="ffffff"/>
                </a:solidFill>
                <a:latin typeface="Arial"/>
              </a:rPr>
              <a:t>Respeto por la manera como otras </a:t>
            </a:r>
            <a:r>
              <a:rPr b="0" lang="es-PE" sz="2800" spc="-1" strike="noStrike">
                <a:solidFill>
                  <a:srgbClr val="000000"/>
                </a:solidFill>
                <a:latin typeface="Arial"/>
              </a:rPr>
              <a:t>personas</a:t>
            </a:r>
            <a:r>
              <a:rPr b="0" lang="es-PE" sz="2800" spc="-1" strike="noStrike">
                <a:solidFill>
                  <a:srgbClr val="ffffff"/>
                </a:solidFill>
                <a:latin typeface="Arial"/>
              </a:rPr>
              <a:t> viven, y por sus eleccion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5.</a:t>
            </a:r>
            <a:r>
              <a:rPr b="0" lang="es-ES" sz="2800" spc="-1" strike="noStrike">
                <a:solidFill>
                  <a:srgbClr val="ffffff"/>
                </a:solidFill>
                <a:latin typeface="Arial"/>
              </a:rPr>
              <a:t>	</a:t>
            </a:r>
            <a:r>
              <a:rPr b="0" lang="es-ES" sz="2800" spc="-1" strike="noStrike">
                <a:solidFill>
                  <a:srgbClr val="ffffff"/>
                </a:solidFill>
                <a:latin typeface="Arial"/>
              </a:rPr>
              <a:t>Respeto por todos los grupos étnico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C88CBA5-98FF-442F-A8BD-D447DA8E8C3C}"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971640" y="496800"/>
            <a:ext cx="7632720" cy="5212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a:t>
            </a:r>
            <a:r>
              <a:rPr b="0" lang="es-PE" sz="3200" spc="-1" strike="noStrike">
                <a:solidFill>
                  <a:srgbClr val="ffffff"/>
                </a:solidFill>
                <a:latin typeface="Times New Roman"/>
              </a:rPr>
              <a:t>La evidencia más segura de que Jesús vive en el templo del alma es: hay una sensibilidad al pecado, una ternura de conciencia y la percepción creciente de la preciosidad de Jesús.  El nombre de Jesús parece lleno de fragancia.  Hay un vivo sentir que el alma está conectada con el poder divino, porque el corazón simpatiza con su mente y propósi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Times New Roman"/>
              </a:rPr>
              <a:t>(</a:t>
            </a:r>
            <a:r>
              <a:rPr b="0" i="1" lang="es-PE" sz="2400" spc="-1" strike="noStrike">
                <a:solidFill>
                  <a:srgbClr val="ffffff"/>
                </a:solidFill>
                <a:latin typeface="Times New Roman"/>
              </a:rPr>
              <a:t>Manuscrito </a:t>
            </a:r>
            <a:r>
              <a:rPr b="0" lang="es-PE" sz="2400" spc="-1" strike="noStrike">
                <a:solidFill>
                  <a:srgbClr val="ffffff"/>
                </a:solidFill>
                <a:latin typeface="Times New Roman"/>
              </a:rPr>
              <a:t>48, 1890, p. 9.)</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DE1A7BE-69D1-46FC-AF90-337309A6498F}"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692280"/>
            <a:ext cx="8229600" cy="5473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BernhardMod BT"/>
              </a:rPr>
              <a:t>	</a:t>
            </a:r>
            <a:r>
              <a:rPr b="0" lang="es-PE" sz="3200" spc="-1" strike="noStrike">
                <a:solidFill>
                  <a:srgbClr val="ffffff"/>
                </a:solidFill>
                <a:latin typeface="Times New Roman"/>
              </a:rPr>
              <a:t>Nuestra sensibilidad cultural personal depende en gran manera de nuestra relación con Jesús.  Cuanto más cerca sea esta relación, más sensibles seremos con las personas dentro de cada cultura.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3200" spc="-1" strike="noStrike">
                <a:solidFill>
                  <a:srgbClr val="ffffff"/>
                </a:solidFill>
                <a:latin typeface="Comic Sans MS"/>
              </a:rPr>
              <a:t>	</a:t>
            </a:r>
            <a:r>
              <a:rPr b="0" lang="es-PE" sz="3200" spc="-1" strike="noStrike">
                <a:solidFill>
                  <a:srgbClr val="ffffff"/>
                </a:solidFill>
                <a:latin typeface="Comic Sans MS"/>
              </a:rPr>
              <a:t>Jesús proveyó el ejemplo perfecto para nosotro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5601BBE-FB75-4F1E-A73D-7F65E8D30687}" type="slidenum">
              <a:t>21</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23590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3200" spc="-1" strike="noStrike">
                <a:solidFill>
                  <a:srgbClr val="ffffff"/>
                </a:solidFill>
                <a:latin typeface="Arial"/>
              </a:rPr>
              <a:t>“</a:t>
            </a:r>
            <a:r>
              <a:rPr b="0" i="1" lang="es-PE" sz="3200" spc="-1" strike="noStrike">
                <a:solidFill>
                  <a:srgbClr val="ffffff"/>
                </a:solidFill>
                <a:latin typeface="Arial"/>
              </a:rPr>
              <a:t>Mirad cuál amor nos ha dado el Padre, que seamos llamados hijos de Dios”</a:t>
            </a:r>
            <a:r>
              <a:rPr b="0" lang="es-PE" sz="3200" spc="-1" strike="noStrike">
                <a:solidFill>
                  <a:srgbClr val="ffffff"/>
                </a:solidFill>
                <a:latin typeface="Arial"/>
              </a:rPr>
              <a:t> </a:t>
            </a:r>
            <a:r>
              <a:rPr b="0" i="1" lang="en-US" sz="3600" spc="-1" strike="noStrike">
                <a:solidFill>
                  <a:srgbClr val="ffffff"/>
                </a:solidFill>
                <a:latin typeface="BernhardMod BT"/>
              </a:rPr>
              <a:t>.</a:t>
            </a:r>
            <a:endParaRPr b="0" lang="en-US" sz="36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ernhardMod BT"/>
              </a:rPr>
              <a:t>1 Juan 3:1</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73EB3FD-91E6-4012-82BB-55777F59E4AD}"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468360" y="512280"/>
            <a:ext cx="8136000" cy="5798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a:t>
            </a:r>
            <a:r>
              <a:rPr b="0" i="1" lang="es-PE" sz="2400" spc="-1" strike="noStrike">
                <a:solidFill>
                  <a:srgbClr val="ffffff"/>
                </a:solidFill>
                <a:latin typeface="Arial"/>
              </a:rPr>
              <a:t>¿Quién puede estimar el valor de un alma? Si queréis saber su valor, id al Getsemaní, y allí velad con Cristo durante esas horas de angustia, cuando su sudor es como grandes gotas de sangre. Mirad al Salvador pendiente de la cruz. Oíd su clamor desesperado: ‘Dios mío, Dios mío, ¿por qué me has desamparado?’ Mirad la cabeza herida, el costado atravesado, los pies maltrechos. Recordad que Cristo lo arriesgó todo. Por nuestra redención el cielo mismo se puso en peligro. Podréis estimar el valor de un alma al pie de la cruz, recordando que Cristo habría entregado su vida por un solo pecado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Palabras de Vida del Gran Maestro, p. 133).</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E7EA052-A172-42A3-B20E-1DFC7D2335CE}"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2720" y="907560"/>
            <a:ext cx="8207280" cy="468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   </a:t>
            </a:r>
            <a:r>
              <a:rPr b="0" lang="es-PE" sz="2400" spc="-1" strike="noStrike">
                <a:solidFill>
                  <a:srgbClr val="ffffff"/>
                </a:solidFill>
                <a:latin typeface="Arial"/>
              </a:rPr>
              <a:t>“</a:t>
            </a:r>
            <a:r>
              <a:rPr b="0" lang="es-PE" sz="2400" spc="-1" strike="noStrike">
                <a:solidFill>
                  <a:srgbClr val="ffffff"/>
                </a:solidFill>
                <a:latin typeface="Arial"/>
              </a:rPr>
              <a:t>Para Dios no hay castas. El ignora cuanto se asemeje a ello. Todas las almas tienen valor para él. El trabajar por la salvación de las almas es un empleo digno del más grande honor. No importa cuál sea la forma de nuestra labor, ni entre qué clase se verifique, ora sea elevada o humilde. A los ojos de Dios estas distinciones no afectan su verdadero valor. El alma sincera, ferviente y contrita, por ignorante que sea, es preciosa a la vista del Señor. El pone su propia señal sobre los hombres, juzgándolos, no por su jerarquía, ni por su riqueza, ni por su grandeza intelectual, sino por su unidad con Cristo.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29639B6-FF72-4C30-BAEE-9A612C07CD63}"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90400" y="1197000"/>
            <a:ext cx="8229600" cy="44640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Arial"/>
              </a:rPr>
              <a:t>	</a:t>
            </a:r>
            <a:r>
              <a:rPr b="0" lang="es-PE" sz="2400" spc="-1" strike="noStrike">
                <a:solidFill>
                  <a:srgbClr val="ffffff"/>
                </a:solidFill>
                <a:latin typeface="Arial"/>
              </a:rPr>
              <a:t>El ignorante, el paria, el esclavo, si ha aprovechado hasta el máximo grado sus oportunidades y privilegios, si ha apreciado la luz que Dios le dio, ha hecho todo cuanto se pedía de él. El mundo puede llamarlo ignorante pero Dios lo llama sabio y bueno, y así su nombre queda registrado en los libros del cielo. Dios lo hará idóneo para que le reporte honor, no sólo en el cielo, sino también en la tierra”</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	</a:t>
            </a:r>
            <a:r>
              <a:rPr b="0" i="1" lang="es-PE" sz="2400" spc="-1" strike="noStrike">
                <a:solidFill>
                  <a:srgbClr val="ffffff"/>
                </a:solidFill>
                <a:latin typeface="Arial"/>
              </a:rPr>
              <a:t>(Evangelismo, p. 412)</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159F6EC-09FF-4970-A68B-492DDFBAC730}"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755640" y="2779200"/>
            <a:ext cx="6408720" cy="210456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a:t>
            </a:r>
            <a:r>
              <a:rPr b="0" i="1" lang="es-PE" sz="2400" spc="-1" strike="noStrike">
                <a:solidFill>
                  <a:srgbClr val="ffffff"/>
                </a:solidFill>
                <a:latin typeface="Arial"/>
              </a:rPr>
              <a:t>Las castas son aborrecibles para Dios.  El desconoce cuanto tenga ese carácter.  A su vista las almas de todos los hombres tienen igual valor.” </a:t>
            </a:r>
            <a:endParaRPr b="0" lang="en-US" sz="2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El Deseado de Todas las Gentes, p. 370).</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75B6854-24EC-47A0-978C-769FFBECE127}"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971640" y="333720"/>
            <a:ext cx="766764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Times New Roman"/>
              </a:rPr>
              <a:t>‘</a:t>
            </a:r>
            <a:r>
              <a:rPr b="0" lang="es-PE" sz="2800" spc="-1" strike="noStrike">
                <a:solidFill>
                  <a:srgbClr val="ffffff"/>
                </a:solidFill>
                <a:latin typeface="Times New Roman"/>
              </a:rPr>
              <a:t>De una sangre ha hecho todo el linaje de los hombres, para que habitasen sobre toda la faz de la tierra; y les ha prefijado el orden de los tiempos, y los términos de la habitación de ellos; para que buscasen a Dios, si en alguna manera, palpando, le hallen; aunque cierto no está lejos de cada uno de nosotros’ (Hechos 17:26,27).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6022E959-B8A4-4ADB-83A0-83E7169B727B}"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8360" y="1600200"/>
            <a:ext cx="8229600" cy="32688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r>
              <a:rPr b="0" lang="es-PE" sz="2800" spc="-1" strike="noStrike">
                <a:solidFill>
                  <a:srgbClr val="ffffff"/>
                </a:solidFill>
                <a:latin typeface="Arial"/>
              </a:rPr>
              <a:t>Sin distinción de edad, jerarquía, nacionalidad o privilegio religioso, todos están invitados a venir a él y vivir ‘Todo aquel que en él creyere, no será avergonzado. Porque no hay diferencia’ (Romanos 10:11,12).</a:t>
            </a:r>
            <a:r>
              <a:rPr b="0" lang="es-PE" sz="2800" spc="-1" strike="noStrike">
                <a:solidFill>
                  <a:srgbClr val="000000"/>
                </a:solidFill>
                <a:latin typeface="Arial"/>
              </a:rPr>
              <a:t>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2289FEE-70FD-4C14-8373-64251AD5B85C}"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11:21:32Z</dcterms:created>
  <dc:creator>Rosana Guerra</dc:creator>
  <dc:description/>
  <dc:language>en-US</dc:language>
  <cp:lastModifiedBy>Unión Peruana</cp:lastModifiedBy>
  <dcterms:modified xsi:type="dcterms:W3CDTF">2008-01-16T16:16:39Z</dcterms:modified>
  <cp:revision>45</cp:revision>
  <dc:subject/>
  <dc:title>Slide 1</dc:title>
</cp:coreProperties>
</file>